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FED-387F-4DDE-B0D4-C0EF4A4B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BD7-07C8-4365-A3BE-524D854B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86F-0EAF-4C03-915A-4C2525D6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486-792D-4C2A-9F0C-F10530F3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A90-3149-4353-8154-12CC508F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B34-88A1-44F0-975A-25D549D6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9EA-ED30-48A3-9091-F5994288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63D-F5BA-4414-A034-BA05DBD8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D2E-A18B-411E-A54C-1CE54969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63F-34D7-4DE4-B6C3-4BED1727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E17-2995-4B8D-950D-6F334DC4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2B0-D15A-4999-9195-A24E842C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646F-F78C-48F2-A045-D471840A2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4:01:36Z</dcterms:created>
  <dc:creator>Patrick J. Mooney</dc:creator>
  <dc:description/>
  <dc:language>en-US</dc:language>
  <cp:lastModifiedBy>Patrick J. Mooney</cp:lastModifiedBy>
  <dcterms:modified xsi:type="dcterms:W3CDTF">2012-03-06T04:14:05Z</dcterms:modified>
  <cp:revision>2</cp:revision>
  <dc:subject/>
  <dc:title>Slide 1</dc:title>
</cp:coreProperties>
</file>